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171-D930-46D6-A467-51B016FA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614-A5CE-4CE2-A36A-55995DAC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85F-AA49-44B2-BB15-9FF923C3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CB0-1780-410F-96AD-559B5829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661-E659-4727-8DFE-57CBA608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C06-6DCA-4813-97AF-0CE19A12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482-5CCF-4130-AB7D-CC74004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222-5F7F-4C29-AD7A-E63515FF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A59-131E-40FC-9102-307A800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E7D-7936-4A18-B982-0ECFD8F0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1DF-96ED-417A-9A50-33DA8F04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933-7B9E-4735-BEF2-8F53C53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D3C-A905-4BBE-899E-6C97641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2C-6CC3-4ED3-8CC6-87DE973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342-5C57-42A3-A96B-7116266E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743200" y="2279520"/>
            <a:ext cx="365760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6:31Z</dcterms:modified>
  <cp:revision>118</cp:revision>
  <dc:subject/>
  <dc:title>Museum of World Stuff</dc:title>
</cp:coreProperties>
</file>